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FCF839A2-48DF-428B-B5D9-2993736F37D3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5225B70B-0E88-470F-86B0-6E466CBFFD60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2EAFF23-A0FE-417B-A381-0EF8C8682C93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B487B9C7-310F-4F97-BFA4-68DFAB1994E5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03800" y="428760"/>
            <a:ext cx="34495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9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4080" y="6492960"/>
            <a:ext cx="595440" cy="3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730080"/>
            <a:ext cx="265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Table of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62240" y="1273320"/>
          <a:ext cx="5180040" cy="3458880"/>
        </p:xfrm>
        <a:graphic>
          <a:graphicData uri="http://schemas.openxmlformats.org/drawingml/2006/table">
            <a:tbl>
              <a:tblPr/>
              <a:tblGrid>
                <a:gridCol w="5180040"/>
              </a:tblGrid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EP Valuation Policy                                                                                         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ation Summaries of BREP Funds and Related Proposed Write-ups / Downs                                                                                                                    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mmary of Investments Held at 9/30 /09  Valuations                                      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tel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                                                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   International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fice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.   International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   Domestic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.   International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2-02T21:04:57Z</dcterms:modified>
  <cp:revision>4875</cp:revision>
  <dc:subject/>
  <dc:title>Page Title</dc:title>
</cp:coreProperties>
</file>